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679C0-7630-4896-9D89-9C13197A1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1CCC28-501A-49F6-AA5E-DCC622C1CA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C1D09-183B-4854-BC93-67AD83D9059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2A5B9-FE42-49F5-B43B-25EF526B6F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CF981-F3F3-45FE-A71E-16A1020F744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56B63-DD34-4FE5-968C-BFECFBB6F1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586B45-5B89-4930-974C-4EA5A94CFCF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D604AA-976E-4ED0-825D-F2C0652682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F92C71-D703-4EE5-8480-787B3DF7AA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1FF8A1-7DF8-4FFB-BEB8-F225677F67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06EB3-048E-46B4-AB13-EEB8521C6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A799DA-D22F-4044-BA7A-276F878FC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43F-23C4-443D-AACA-ADFDCBE1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BAE-1C5A-4618-9073-5CE1D716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BE7-18D0-466C-9558-84785090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F68-39A9-44C1-AE00-6D5B67A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155-A4D0-4FA0-938E-077B1AE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6CB-05F5-4E4F-9B79-FCACCDA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E26-6F77-48D8-B68C-BC81667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8A1-0E84-49E3-B724-940DBA1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764-0C15-4A1F-BF64-FA0F4FAE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57B-6E62-43A9-ABDE-CD1EC08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5D9-6388-4133-A82A-C9E4A111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8E8-B458-4A85-BF0E-F385603D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333B-AA4B-4034-B1B5-7766FD22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ABD-F7A5-42EB-8871-354B660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9FE-D5EC-46B3-8455-95739C24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A47-9618-4CF3-AC61-B83674F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AFFA-BEC2-4120-8A3D-DA216F98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D86-15A5-468B-BBA7-51443E44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7D93-034C-410F-A473-DA58DCC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24EF-3C6E-4CBB-9467-DC59406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B5A1-595E-41CF-8ED4-DFF2748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5AC-B36C-4E1F-B42C-7DCC999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ED5C-45F4-4778-94C9-4BD364A0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F78-1C73-4916-AE8F-22D6AF45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92D9-8925-4F97-88A5-6B47CAD5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69FD-E213-4E27-AA8A-406245D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0113-54F2-44FD-BA7B-2AD0F3CF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3449-DFA0-4387-A389-35BB9A7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0D33-B255-4773-A552-7D3335F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20E8-117B-465E-B2E2-5442855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8A89-451D-4AC6-A692-5CD4920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CBE2-4A36-4734-9D87-2D2C1A5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FABF-C042-4F17-BACD-3B4017A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A1C5-2756-4BDD-B34E-41B1982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C584-B779-42C2-9179-D3B55243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7548-EC01-4388-9660-1EE65E93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A576-FF4A-41C5-8D8E-7B28DF18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DD12-9B1B-4DE7-8184-552E335C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CFCC9-05FE-4398-8478-4C88D9E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316B-94D6-46CE-92F8-E65067D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C5B7-B9A8-470D-A8E5-DBA984F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6625-E04B-49E4-AA49-18BA98D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0C6C-9BCB-49D9-8569-55C773A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AC92-ABE9-44CD-B4AE-131DEA1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19EA-D0B2-42A9-941C-98889CA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B9AE-51C4-45D1-81AE-DDF1DAE6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AB0E-9FC7-482F-9AC7-6F5A0783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0714-DDBA-4D8B-AE40-63E9162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F08B-D96F-470D-B261-C07DF3DE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0E73-0E16-4CCC-B5E3-8F2B131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ACAD-0648-45E2-AD27-ABBEA20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278A-09A0-4075-AC5C-A0B48D20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C04C-675D-4EC4-BF14-6233306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E003-4946-4A94-B8BD-66F6A0FA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82F2-96E9-4E43-97B3-AD29607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93DB-FF8A-4A46-9174-6E8404C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AE9D-418E-426F-9F5E-8EA5A80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5278-C4F2-4AF5-BE51-086A1D6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A66B-DFDE-4A68-B36B-34B456ED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7F89-A714-4740-B2B4-5D737FD9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B5E3-343C-4FD3-AA35-CE1D48E9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64AD-5911-40F9-882E-BE8DDA4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5A6C-7855-4B63-8024-30699C8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4566-F4FD-45DC-9909-19CAF422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D3847-346D-4A74-9EF7-0469305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40C4-554F-4BFE-BAD6-0B031E07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8E174-5B51-48B3-A9BC-610C5EA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446C-7F42-48F8-BB38-6DFD886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4474-A0AE-426E-B9CC-6E47FE3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AD2A-1B58-4393-8ED8-79A1766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08BD-6896-4A47-AB9C-03E029DC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9B69A-9A1C-4FD5-BC58-C3F8A1E5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sldNum" idx="19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B7A-370F-42CE-9CCC-74B17D6BAD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2C0-5487-4A5D-8880-B2916E212E8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77C-079C-478E-9DAE-E7ECEB7738A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0FED-386E-43C6-A5D2-0EF5E1CF9CB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C6C6-B522-4CBE-A434-C887DCAC5EA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35BA-AE5B-49A7-B20E-113F9ECFE62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609120" y="6357600"/>
            <a:ext cx="284508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4165560" y="6357600"/>
            <a:ext cx="385920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8736120" y="6357600"/>
            <a:ext cx="284472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09A-18DB-408B-B2A6-95A7D6CA00C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2"/>
          <p:cNvSpPr/>
          <p:nvPr/>
        </p:nvSpPr>
        <p:spPr>
          <a:xfrm>
            <a:off x="4464000" y="2206800"/>
            <a:ext cx="345960" cy="6048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G:\工作\校长办公室各科室工作\综合科\校名、校徽与校训\校徽\学校标题_红色3D_正式出图.gif"/>
          <p:cNvPicPr/>
          <p:nvPr/>
        </p:nvPicPr>
        <p:blipFill>
          <a:blip r:embed="rId2"/>
          <a:stretch/>
        </p:blipFill>
        <p:spPr>
          <a:xfrm>
            <a:off x="190440" y="95400"/>
            <a:ext cx="4381560" cy="969840"/>
          </a:xfrm>
          <a:prstGeom prst="rect">
            <a:avLst/>
          </a:prstGeom>
          <a:ln w="0">
            <a:noFill/>
          </a:ln>
        </p:spPr>
      </p:pic>
      <p:sp>
        <p:nvSpPr>
          <p:cNvPr id="316" name="Oval 12"/>
          <p:cNvSpPr/>
          <p:nvPr/>
        </p:nvSpPr>
        <p:spPr>
          <a:xfrm>
            <a:off x="4464000" y="2206800"/>
            <a:ext cx="345960" cy="6048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4557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6"/>
          <p:cNvSpPr/>
          <p:nvPr/>
        </p:nvSpPr>
        <p:spPr>
          <a:xfrm>
            <a:off x="3214800" y="4764240"/>
            <a:ext cx="58546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80000"/>
                </a:solidFill>
                <a:latin typeface="微软雅黑"/>
                <a:ea typeface="微软雅黑"/>
              </a:rPr>
              <a:t>二</a:t>
            </a:r>
            <a:r>
              <a:rPr b="0" lang="zh-CN" sz="2700" spc="-1" strike="noStrike">
                <a:solidFill>
                  <a:srgbClr val="c80000"/>
                </a:solidFill>
                <a:latin typeface="Wingdings 2"/>
                <a:ea typeface="Wingdings 2"/>
              </a:rPr>
              <a:t></a:t>
            </a:r>
            <a:r>
              <a:rPr b="0" lang="zh-CN" sz="2700" spc="-1" strike="noStrike">
                <a:solidFill>
                  <a:srgbClr val="c80000"/>
                </a:solidFill>
                <a:latin typeface="微软雅黑"/>
                <a:ea typeface="微软雅黑"/>
              </a:rPr>
              <a:t>二二年十一月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80000"/>
                </a:solidFill>
                <a:latin typeface="微软雅黑"/>
                <a:ea typeface="微软雅黑"/>
              </a:rPr>
              <a:t>人事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-31680" y="2000160"/>
            <a:ext cx="12239640" cy="3002400"/>
          </a:xfrm>
          <a:prstGeom prst="rect">
            <a:avLst/>
          </a:prstGeom>
          <a:solidFill>
            <a:srgbClr val="af0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2286000"/>
            <a:ext cx="12190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津医科大学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称评审培训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6"/>
          <p:cNvSpPr/>
          <p:nvPr/>
        </p:nvSpPr>
        <p:spPr>
          <a:xfrm>
            <a:off x="0" y="1905120"/>
            <a:ext cx="121903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7"/>
          <p:cNvSpPr/>
          <p:nvPr/>
        </p:nvSpPr>
        <p:spPr>
          <a:xfrm>
            <a:off x="-33480" y="4859280"/>
            <a:ext cx="122382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2"/>
          <p:cNvSpPr/>
          <p:nvPr/>
        </p:nvSpPr>
        <p:spPr>
          <a:xfrm>
            <a:off x="808200" y="128592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成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236600" y="5105520"/>
            <a:ext cx="964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情况：依次填写以下信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课题来源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排名情况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经费情况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获奖情况（如有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例：国家自然科学基金面上项目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排名第一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经费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万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国自然基金要写明青年或面上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20829" t="18758" r="20577" b="31244"/>
          <a:stretch/>
        </p:blipFill>
        <p:spPr>
          <a:xfrm>
            <a:off x="3808440" y="1143000"/>
            <a:ext cx="7738920" cy="371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26" name="矩形 6"/>
          <p:cNvSpPr/>
          <p:nvPr/>
        </p:nvSpPr>
        <p:spPr>
          <a:xfrm>
            <a:off x="8167680" y="1643040"/>
            <a:ext cx="3357720" cy="17874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7"/>
          <p:cNvSpPr/>
          <p:nvPr/>
        </p:nvSpPr>
        <p:spPr>
          <a:xfrm>
            <a:off x="3951360" y="2357280"/>
            <a:ext cx="2930400" cy="5004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522360" y="24289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别对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单位内部项目</a:t>
            </a:r>
            <a:r>
              <a:rPr b="1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校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区局级项目</a:t>
            </a:r>
            <a:r>
              <a:rPr b="1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局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2"/>
          <p:cNvSpPr/>
          <p:nvPr/>
        </p:nvSpPr>
        <p:spPr>
          <a:xfrm>
            <a:off x="808200" y="128592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成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"/>
          <p:cNvSpPr/>
          <p:nvPr/>
        </p:nvSpPr>
        <p:spPr>
          <a:xfrm>
            <a:off x="808200" y="6006960"/>
            <a:ext cx="900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别对应：</a:t>
            </a: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单位内部</a:t>
            </a:r>
            <a:r>
              <a:rPr b="1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校级、区局级</a:t>
            </a:r>
            <a:r>
              <a:rPr b="1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r>
              <a:rPr b="1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局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rcRect l="20439" t="18758" r="20577" b="44437"/>
          <a:stretch/>
        </p:blipFill>
        <p:spPr>
          <a:xfrm>
            <a:off x="808200" y="2071800"/>
            <a:ext cx="10788480" cy="378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9"/>
          <p:cNvSpPr/>
          <p:nvPr/>
        </p:nvSpPr>
        <p:spPr>
          <a:xfrm>
            <a:off x="1093680" y="1214280"/>
            <a:ext cx="100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团体任职情况、继续教育、考核情况逐项填写并上传附件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“评委会需求申报材料”后检查无误，点击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提交”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钮即完成填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7238880" y="2214720"/>
            <a:ext cx="4314960" cy="41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34" name="矩形 5"/>
          <p:cNvSpPr/>
          <p:nvPr/>
        </p:nvSpPr>
        <p:spPr>
          <a:xfrm>
            <a:off x="9381960" y="3573360"/>
            <a:ext cx="1928880" cy="785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1165320" y="2786040"/>
            <a:ext cx="5100480" cy="19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36" name="矩形 7"/>
          <p:cNvSpPr/>
          <p:nvPr/>
        </p:nvSpPr>
        <p:spPr>
          <a:xfrm>
            <a:off x="4379760" y="4073400"/>
            <a:ext cx="785880" cy="5716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593640" y="5073480"/>
            <a:ext cx="643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后，如单位未查看，可点击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撤回”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钮继续修改；如单位已查看，可联系单位退回修改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236600" y="1571760"/>
            <a:ext cx="9648720" cy="26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39" name="矩形 8"/>
          <p:cNvSpPr/>
          <p:nvPr/>
        </p:nvSpPr>
        <p:spPr>
          <a:xfrm>
            <a:off x="6667560" y="3286080"/>
            <a:ext cx="1500120" cy="787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879480" y="4788000"/>
            <a:ext cx="1086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后，点击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打印申请表”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钮，打印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审表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进入审核阶段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23"/>
          <p:cNvSpPr/>
          <p:nvPr/>
        </p:nvSpPr>
        <p:spPr>
          <a:xfrm>
            <a:off x="571680" y="1146240"/>
            <a:ext cx="260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3"/>
          <p:cNvSpPr/>
          <p:nvPr/>
        </p:nvSpPr>
        <p:spPr>
          <a:xfrm>
            <a:off x="4451400" y="2928960"/>
            <a:ext cx="2930400" cy="12873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上线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同审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879640" y="1214280"/>
            <a:ext cx="8274240" cy="550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44" name="矩形 4"/>
          <p:cNvSpPr/>
          <p:nvPr/>
        </p:nvSpPr>
        <p:spPr>
          <a:xfrm>
            <a:off x="593640" y="121428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账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522360" y="3286080"/>
            <a:ext cx="2071440" cy="5054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密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4"/>
          <p:cNvSpPr/>
          <p:nvPr/>
        </p:nvSpPr>
        <p:spPr>
          <a:xfrm>
            <a:off x="593640" y="121428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审核流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2879640" y="1357200"/>
            <a:ext cx="8663040" cy="500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矩形 5"/>
          <p:cNvSpPr/>
          <p:nvPr/>
        </p:nvSpPr>
        <p:spPr>
          <a:xfrm>
            <a:off x="593640" y="1214280"/>
            <a:ext cx="285768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单位流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255600" y="2195640"/>
            <a:ext cx="11677680" cy="246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50" name="TextBox 8"/>
          <p:cNvSpPr/>
          <p:nvPr/>
        </p:nvSpPr>
        <p:spPr>
          <a:xfrm>
            <a:off x="736560" y="5002200"/>
            <a:ext cx="1064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核对申报人的所有信息无误后，点击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通过”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钮，“不通过”即退回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912960" y="2709720"/>
            <a:ext cx="10420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marL="455760" indent="-455760" algn="ctr">
              <a:lnSpc>
                <a:spcPts val="87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80000"/>
                </a:solidFill>
                <a:latin typeface="微软雅黑"/>
                <a:ea typeface="微软雅黑"/>
              </a:rPr>
              <a:t>汇报完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文本框 23"/>
          <p:cNvSpPr/>
          <p:nvPr/>
        </p:nvSpPr>
        <p:spPr>
          <a:xfrm>
            <a:off x="571680" y="1146240"/>
            <a:ext cx="260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665360" y="2286000"/>
            <a:ext cx="2786040" cy="1000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填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5"/>
          <p:cNvSpPr/>
          <p:nvPr/>
        </p:nvSpPr>
        <p:spPr>
          <a:xfrm>
            <a:off x="1665360" y="4216320"/>
            <a:ext cx="2786040" cy="1000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上线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同审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C:\Users\Medical\AppData\Local\Temp\WeChat Files\464f239cb05ab3f3f2ecf138b9c1783.jpg"/>
          <p:cNvPicPr/>
          <p:nvPr/>
        </p:nvPicPr>
        <p:blipFill>
          <a:blip r:embed="rId1"/>
          <a:stretch/>
        </p:blipFill>
        <p:spPr>
          <a:xfrm>
            <a:off x="5880240" y="614520"/>
            <a:ext cx="4216320" cy="581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23"/>
          <p:cNvSpPr/>
          <p:nvPr/>
        </p:nvSpPr>
        <p:spPr>
          <a:xfrm>
            <a:off x="571680" y="1146240"/>
            <a:ext cx="260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>
            <a:off x="4665600" y="2928960"/>
            <a:ext cx="2787840" cy="10015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填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3" descr=""/>
          <p:cNvPicPr/>
          <p:nvPr/>
        </p:nvPicPr>
        <p:blipFill>
          <a:blip r:embed="rId1"/>
          <a:stretch/>
        </p:blipFill>
        <p:spPr>
          <a:xfrm>
            <a:off x="1308240" y="1785960"/>
            <a:ext cx="9645480" cy="492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>
                <a:alpha val="0"/>
              </a:srgbClr>
            </a:outerShdw>
          </a:effectLst>
        </p:spPr>
      </p:pic>
      <p:sp>
        <p:nvSpPr>
          <p:cNvPr id="405" name="矩形 11"/>
          <p:cNvSpPr/>
          <p:nvPr/>
        </p:nvSpPr>
        <p:spPr>
          <a:xfrm>
            <a:off x="1308240" y="1136520"/>
            <a:ext cx="9645480" cy="5054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rome</a:t>
            </a:r>
            <a:r>
              <a:rPr b="0" lang="zh-CN" sz="2700" spc="-1" strike="noStrike">
                <a:solidFill>
                  <a:srgbClr val="ffffff"/>
                </a:solidFill>
                <a:latin typeface="Calibri"/>
              </a:rPr>
              <a:t>浏览器 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111.33.175.202:8081/zcpsqd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38" descr=""/>
          <p:cNvPicPr/>
          <p:nvPr/>
        </p:nvPicPr>
        <p:blipFill>
          <a:blip r:embed="rId1"/>
          <a:stretch/>
        </p:blipFill>
        <p:spPr>
          <a:xfrm>
            <a:off x="665280" y="1214280"/>
            <a:ext cx="11048760" cy="530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8" descr=""/>
          <p:cNvPicPr/>
          <p:nvPr/>
        </p:nvPicPr>
        <p:blipFill>
          <a:blip r:embed="rId1"/>
          <a:stretch/>
        </p:blipFill>
        <p:spPr>
          <a:xfrm>
            <a:off x="379440" y="1357200"/>
            <a:ext cx="11485440" cy="264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08" name="TextBox 10"/>
          <p:cNvSpPr/>
          <p:nvPr/>
        </p:nvSpPr>
        <p:spPr>
          <a:xfrm>
            <a:off x="379440" y="4216320"/>
            <a:ext cx="72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工作单位：天津医科大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学院（标准名称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379440" y="4859280"/>
            <a:ext cx="72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评价方式：自主评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2"/>
          <p:cNvSpPr/>
          <p:nvPr/>
        </p:nvSpPr>
        <p:spPr>
          <a:xfrm>
            <a:off x="379440" y="5430960"/>
            <a:ext cx="1136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申报系列：高等学校教师、实验技术、哲学社会科学研究、自然科学研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379440" y="6066000"/>
            <a:ext cx="72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申报评委会：天津医科大学自主自主评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9"/>
          <p:cNvSpPr/>
          <p:nvPr/>
        </p:nvSpPr>
        <p:spPr>
          <a:xfrm>
            <a:off x="1093680" y="1214280"/>
            <a:ext cx="8788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学历信息、资历信息、工作经历逐项填写并上传附件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44" descr=""/>
          <p:cNvPicPr/>
          <p:nvPr/>
        </p:nvPicPr>
        <p:blipFill>
          <a:blip r:embed="rId1"/>
          <a:stretch/>
        </p:blipFill>
        <p:spPr>
          <a:xfrm>
            <a:off x="1022400" y="1857240"/>
            <a:ext cx="10315440" cy="369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14" name="TextBox 10"/>
          <p:cNvSpPr/>
          <p:nvPr/>
        </p:nvSpPr>
        <p:spPr>
          <a:xfrm>
            <a:off x="1022400" y="5788080"/>
            <a:ext cx="1064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以教师系列为例，“专业能力”模块对照文件要求，逐项选择，逐项填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矩形 2"/>
          <p:cNvSpPr/>
          <p:nvPr/>
        </p:nvSpPr>
        <p:spPr>
          <a:xfrm>
            <a:off x="808200" y="128592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能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879480" y="5573880"/>
            <a:ext cx="107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工作量描述：任现职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课时数</a:t>
            </a:r>
            <a:r>
              <a:rPr b="0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均课时数</a:t>
            </a:r>
            <a:r>
              <a:rPr b="0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其中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科教学课时数</a:t>
            </a:r>
            <a:r>
              <a:rPr b="0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所在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系</a:t>
            </a:r>
            <a:r>
              <a:rPr b="0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0" lang="zh-CN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教研室年人均课时数</a:t>
            </a:r>
            <a:r>
              <a:rPr b="0" lang="en-US" sz="27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3308400" y="1357200"/>
            <a:ext cx="7586640" cy="392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18" name="矩形 6"/>
          <p:cNvSpPr/>
          <p:nvPr/>
        </p:nvSpPr>
        <p:spPr>
          <a:xfrm>
            <a:off x="3522600" y="4287960"/>
            <a:ext cx="7216920" cy="928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2"/>
          <p:cNvSpPr/>
          <p:nvPr/>
        </p:nvSpPr>
        <p:spPr>
          <a:xfrm>
            <a:off x="808200" y="1285920"/>
            <a:ext cx="2000160" cy="6429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成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65280" y="2143080"/>
            <a:ext cx="10772640" cy="320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421" name="矩形 4"/>
          <p:cNvSpPr/>
          <p:nvPr/>
        </p:nvSpPr>
        <p:spPr>
          <a:xfrm>
            <a:off x="6810480" y="3787920"/>
            <a:ext cx="4572000" cy="571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665280" y="5716440"/>
            <a:ext cx="964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期刊名称：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期刊  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校级（或院级）目录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B\C\D</a:t>
            </a:r>
            <a:r>
              <a:rPr b="0" lang="zh-CN" sz="2700" spc="-1" strike="noStrike">
                <a:solidFill>
                  <a:srgbClr val="ff0000"/>
                </a:solidFill>
                <a:latin typeface="Arial"/>
              </a:rPr>
              <a:t>）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1T08:17:21Z</dcterms:created>
  <dc:creator>tj</dc:creator>
  <dc:description/>
  <dc:language>en-US</dc:language>
  <cp:lastModifiedBy>Windows 用户</cp:lastModifiedBy>
  <dcterms:modified xsi:type="dcterms:W3CDTF">2022-11-09T06:14:52Z</dcterms:modified>
  <cp:revision>1452</cp:revision>
  <dc:subject/>
  <dc:title>如何写科研标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</Properties>
</file>